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441-3C74-4287-8C39-097FD55A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199-525F-4BD3-BDAC-4D870923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146-86AE-426F-9D0F-6FC4A5E0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392-1CBC-4358-9B52-236D5C25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0FEA-82FC-4F9A-8D21-C958D548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E19-56C8-4233-A207-755E40D6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5AC-C1FB-4BFC-9E3C-790C19FE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65E-DD47-4828-83B0-D9833007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55B0-9661-40DF-A4A7-AEC0AD30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6EE-9558-47E0-9AF3-5FF2EFEE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726-4B76-4B1D-9989-A5EEF16B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E3C6-457F-4674-97EF-A186FB24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1148-1FB6-4EEE-AFAF-153FE6B42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 use case and create a collaborative group to build a POC that demonstrates the secondary use of EMR data for patient recruitment for clinical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use case g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mezie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hel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: y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ron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jay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yotishman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nen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: Qualified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e Allen/VA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ie – share with Lill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: Product uses machin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: Good u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ian: Good u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n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c N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anne 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of patients may not be available in the E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ness of Inclusion/Exclus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incorporate the hard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of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ther aspect of EMR shipping to th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Database and a funder of clinical 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into EMR system…. Need for mapping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equired for regulatory agencie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s with Machine Learnining Socia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s of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rater reliabi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ag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nation, 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pul: Will try to get som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n: choose criteria to reduce the type of anonymyz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develop specific criteria and data requirements spread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anonymy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hould come from at least two sources if not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rge Allen – college stu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m – Get back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nen Fox: Hopefully at leas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yotishman: Get back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tt Marshall: 1 student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anne: Get back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ron: Get b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hel: 2 students or m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chel: 1 day/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an: Get back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ic: U Cincinnati – Bruce Aronow’s 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it Sheth’s 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mezi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pul: 1 day/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sie: ! Stud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:  1 day/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us: something more concr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rian – Rule bases applications … need to de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rete Projec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it on the next Tel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o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: Federally mandate barrier… Clinicians cannot refer patients for research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searcher can find cohort and go to the clin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21:50:45Z</dcterms:created>
  <dc:creator>Partners Information Systems</dc:creator>
  <dc:description/>
  <dc:language>en-US</dc:language>
  <cp:lastModifiedBy>Partners Information Systems</cp:lastModifiedBy>
  <dcterms:modified xsi:type="dcterms:W3CDTF">2007-11-08T23:01:56Z</dcterms:modified>
  <cp:revision>2</cp:revision>
  <dc:subject/>
  <dc:title>Brainstorming</dc:title>
</cp:coreProperties>
</file>